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3DC6-5D91-4009-A639-5D15676417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o speaking and writing activity with this. They roll the dice and form senten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o speaking and writing activity with this. They roll the dice and form senten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A68-9082-44BC-9E4D-3EE34314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64C-AF76-4542-A499-0E6ED027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F7E-8E62-426F-B8C6-C181C711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518-A907-45FE-9634-B9628D2A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615-63CE-4FDA-803C-301C8E79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A7A-B0DD-4741-ABC1-7C22D9CE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6AA-A2C0-4CD2-9549-797507EC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B13-321F-4DB2-AA39-EA53766E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A77-4C9B-4E2A-96ED-CCC5BD8E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A61-17E0-47B4-A66E-88D81161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E90-0E52-413F-9957-9E2E37AD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F3D-9EC8-47DD-B226-B1BAF411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2D30-4609-4A63-8955-14AB350E6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d/dc/Dice-5.svg/557px-Dice-5.svg.png&amp;imgrefurl=http://commons.wikimedia.org/wiki/File:Dice-5.svg&amp;usg=__bJNjDhiozraWZ5F-SX7ELzi53x4=&amp;h=557&amp;w=557&amp;sz=27&amp;hl=en&amp;start=4&amp;tbnid=jkIYFD6carTDfM:&amp;tbnh=133&amp;tbnw=133&amp;prev=/images%3Fq%3Ddice%2B5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.uk/imgres?imgurl=http://upload.wikimedia.org/wikipedia/commons/thumb/d/d7/Dice-6a.svg/557px-Dice-6a.svg.png&amp;imgrefurl=http://commons.wikimedia.org/wiki/File:Dice-6a.svg&amp;usg=__UedgtApqJuGdDMZHmkeFdggYkmM=&amp;h=557&amp;w=557&amp;sz=30&amp;hl=en&amp;start=2&amp;tbnid=LsMhKPXLRX6-XM:&amp;tbnh=133&amp;tbnw=133&amp;prev=/images%3Fq%3Ddice%2B6%26gbv%3D2%26hl%3D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.uk/imgres?imgurl=http://upload.wikimedia.org/wikipedia/commons/thumb/0/09/Dice-1.svg/557px-Dice-1.svg.png&amp;imgrefurl=http://commons.wikimedia.org/wiki/File:Dice-1.svg&amp;usg=__2Bygz51kjeuiQqAFBnTk1UJHmyk=&amp;h=557&amp;w=557&amp;sz=11&amp;hl=en&amp;start=7&amp;tbnid=rYX3qPdENwubYM:&amp;tbnh=133&amp;tbnw=133&amp;prev=/images%3Fq%3Ddice%2B1%26gbv%3D2%26hl%3D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.uk/imgres?imgurl=http://upload.wikimedia.org/wikipedia/commons/thumb/b/bc/Dice-2a.svg/557px-Dice-2a.svg.png&amp;imgrefurl=http://commons.wikimedia.org/wiki/File:Dice-2a.svg&amp;usg=__NKE4nE8Dg_GKiWkK_153KKqWUoc=&amp;h=557&amp;w=557&amp;sz=15&amp;hl=en&amp;start=1&amp;tbnid=NYlTVYKbG93-mM:&amp;tbnh=133&amp;tbnw=133&amp;prev=/images%3Fq%3Ddice%2B2%26gbv%3D2%26hl%3De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.uk/imgres?imgurl=http://upload.wikimedia.org/wikipedia/commons/thumb/2/28/Dice-3a.svg/557px-Dice-3a.svg.png&amp;imgrefurl=http://commons.wikimedia.org/wiki/File:Dice-3a.svg&amp;usg=__cYMoXoEQq6HmdBNymZGorfzwZP0=&amp;h=557&amp;w=557&amp;sz=19&amp;hl=en&amp;start=2&amp;tbnid=4EDlNMFEdkGzcM:&amp;tbnh=133&amp;tbnw=133&amp;prev=/images%3Fq%3Ddice%2B3%26gbv%3D2%26hl%3De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.uk/imgres?imgurl=http://upload.wikimedia.org/wikipedia/commons/thumb/1/16/Dice-4.svg/557px-Dice-4.svg.png&amp;imgrefurl=http://commons.wikimedia.org/wiki/File:Dice-4.svg&amp;usg=__ht_hPy4X03Q4O0kITPgrqpmQkkw=&amp;h=557&amp;w=557&amp;sz=23&amp;hl=en&amp;start=6&amp;tbnid=nYizvlNsOzhHYM:&amp;tbnh=133&amp;tbnw=133&amp;prev=/images%3Fq%3Ddice%2B4%26gbv%3D2%26hl%3Den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images.google.co.uk/imgres?imgurl=http://upload.wikimedia.org/wikipedia/commons/thumb/d/dc/Dice-5.svg/557px-Dice-5.svg.png&amp;imgrefurl=http://commons.wikimedia.org/wiki/File:Dice-5.svg&amp;usg=__bJNjDhiozraWZ5F-SX7ELzi53x4=&amp;h=557&amp;w=557&amp;sz=27&amp;hl=en&amp;start=4&amp;tbnid=jkIYFD6carTDfM:&amp;tbnh=133&amp;tbnw=133&amp;prev=/images%3Fq%3Ddice%2B5%26gbv%3D2%26hl%3Den" TargetMode="External"/><Relationship Id="rId14" Type="http://schemas.openxmlformats.org/officeDocument/2006/relationships/image" Target="../media/image5.jpeg"/><Relationship Id="rId15" Type="http://schemas.openxmlformats.org/officeDocument/2006/relationships/hyperlink" Target="http://images.google.co.uk/imgres?imgurl=http://upload.wikimedia.org/wikipedia/commons/thumb/d/d7/Dice-6a.svg/557px-Dice-6a.svg.png&amp;imgrefurl=http://commons.wikimedia.org/wiki/File:Dice-6a.svg&amp;usg=__UedgtApqJuGdDMZHmkeFdggYkmM=&amp;h=557&amp;w=557&amp;sz=30&amp;hl=en&amp;start=2&amp;tbnid=LsMhKPXLRX6-XM:&amp;tbnh=133&amp;tbnw=133&amp;prev=/images%3Fq%3Ddice%2B6%26gbv%3D2%26hl%3Den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.uk/imgres?imgurl=http://upload.wikimedia.org/wikipedia/commons/thumb/0/09/Dice-1.svg/557px-Dice-1.svg.png&amp;imgrefurl=http://commons.wikimedia.org/wiki/File:Dice-1.svg&amp;usg=__2Bygz51kjeuiQqAFBnTk1UJHmyk=&amp;h=557&amp;w=557&amp;sz=11&amp;hl=en&amp;start=7&amp;tbnid=rYX3qPdENwubYM:&amp;tbnh=133&amp;tbnw=133&amp;prev=/images%3Fq%3Ddice%2B1%26gbv%3D2%26hl%3Den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co.uk/imgres?imgurl=http://upload.wikimedia.org/wikipedia/commons/thumb/b/bc/Dice-2a.svg/557px-Dice-2a.svg.png&amp;imgrefurl=http://commons.wikimedia.org/wiki/File:Dice-2a.svg&amp;usg=__NKE4nE8Dg_GKiWkK_153KKqWUoc=&amp;h=557&amp;w=557&amp;sz=15&amp;hl=en&amp;start=1&amp;tbnid=NYlTVYKbG93-mM:&amp;tbnh=133&amp;tbnw=133&amp;prev=/images%3Fq%3Ddice%2B2%26gbv%3D2%26hl%3Den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.uk/imgres?imgurl=http://upload.wikimedia.org/wikipedia/commons/thumb/2/28/Dice-3a.svg/557px-Dice-3a.svg.png&amp;imgrefurl=http://commons.wikimedia.org/wiki/File:Dice-3a.svg&amp;usg=__cYMoXoEQq6HmdBNymZGorfzwZP0=&amp;h=557&amp;w=557&amp;sz=19&amp;hl=en&amp;start=2&amp;tbnid=4EDlNMFEdkGzcM:&amp;tbnh=133&amp;tbnw=133&amp;prev=/images%3Fq%3Ddice%2B3%26gbv%3D2%26hl%3Den" TargetMode="External"/><Relationship Id="rId22" Type="http://schemas.openxmlformats.org/officeDocument/2006/relationships/image" Target="../media/image9.jpeg"/><Relationship Id="rId23" Type="http://schemas.openxmlformats.org/officeDocument/2006/relationships/image" Target="../media/image10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d/dc/Dice-5.svg/557px-Dice-5.svg.png&amp;imgrefurl=http://commons.wikimedia.org/wiki/File:Dice-5.svg&amp;usg=__bJNjDhiozraWZ5F-SX7ELzi53x4=&amp;h=557&amp;w=557&amp;sz=27&amp;hl=en&amp;start=4&amp;tbnid=jkIYFD6carTDfM:&amp;tbnh=133&amp;tbnw=133&amp;prev=/images%3Fq%3Ddice%2B5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.uk/imgres?imgurl=http://upload.wikimedia.org/wikipedia/commons/thumb/d/d7/Dice-6a.svg/557px-Dice-6a.svg.png&amp;imgrefurl=http://commons.wikimedia.org/wiki/File:Dice-6a.svg&amp;usg=__UedgtApqJuGdDMZHmkeFdggYkmM=&amp;h=557&amp;w=557&amp;sz=30&amp;hl=en&amp;start=2&amp;tbnid=LsMhKPXLRX6-XM:&amp;tbnh=133&amp;tbnw=133&amp;prev=/images%3Fq%3Ddice%2B6%26gbv%3D2%26hl%3D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.uk/imgres?imgurl=http://upload.wikimedia.org/wikipedia/commons/thumb/0/09/Dice-1.svg/557px-Dice-1.svg.png&amp;imgrefurl=http://commons.wikimedia.org/wiki/File:Dice-1.svg&amp;usg=__2Bygz51kjeuiQqAFBnTk1UJHmyk=&amp;h=557&amp;w=557&amp;sz=11&amp;hl=en&amp;start=7&amp;tbnid=rYX3qPdENwubYM:&amp;tbnh=133&amp;tbnw=133&amp;prev=/images%3Fq%3Ddice%2B1%26gbv%3D2%26hl%3De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.uk/imgres?imgurl=http://upload.wikimedia.org/wikipedia/commons/thumb/b/bc/Dice-2a.svg/557px-Dice-2a.svg.png&amp;imgrefurl=http://commons.wikimedia.org/wiki/File:Dice-2a.svg&amp;usg=__NKE4nE8Dg_GKiWkK_153KKqWUoc=&amp;h=557&amp;w=557&amp;sz=15&amp;hl=en&amp;start=1&amp;tbnid=NYlTVYKbG93-mM:&amp;tbnh=133&amp;tbnw=133&amp;prev=/images%3Fq%3Ddice%2B2%26gbv%3D2%26hl%3Den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.uk/imgres?imgurl=http://upload.wikimedia.org/wikipedia/commons/thumb/2/28/Dice-3a.svg/557px-Dice-3a.svg.png&amp;imgrefurl=http://commons.wikimedia.org/wiki/File:Dice-3a.svg&amp;usg=__cYMoXoEQq6HmdBNymZGorfzwZP0=&amp;h=557&amp;w=557&amp;sz=19&amp;hl=en&amp;start=2&amp;tbnid=4EDlNMFEdkGzcM:&amp;tbnh=133&amp;tbnw=133&amp;prev=/images%3Fq%3Ddice%2B3%26gbv%3D2%26hl%3De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.uk/imgres?imgurl=http://upload.wikimedia.org/wikipedia/commons/thumb/1/16/Dice-4.svg/557px-Dice-4.svg.png&amp;imgrefurl=http://commons.wikimedia.org/wiki/File:Dice-4.svg&amp;usg=__ht_hPy4X03Q4O0kITPgrqpmQkkw=&amp;h=557&amp;w=557&amp;sz=23&amp;hl=en&amp;start=6&amp;tbnid=nYizvlNsOzhHYM:&amp;tbnh=133&amp;tbnw=133&amp;prev=/images%3Fq%3Ddice%2B4%26gbv%3D2%26hl%3Den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images.google.co.uk/imgres?imgurl=http://upload.wikimedia.org/wikipedia/commons/thumb/d/dc/Dice-5.svg/557px-Dice-5.svg.png&amp;imgrefurl=http://commons.wikimedia.org/wiki/File:Dice-5.svg&amp;usg=__bJNjDhiozraWZ5F-SX7ELzi53x4=&amp;h=557&amp;w=557&amp;sz=27&amp;hl=en&amp;start=4&amp;tbnid=jkIYFD6carTDfM:&amp;tbnh=133&amp;tbnw=133&amp;prev=/images%3Fq%3Ddice%2B5%26gbv%3D2%26hl%3Den" TargetMode="External"/><Relationship Id="rId14" Type="http://schemas.openxmlformats.org/officeDocument/2006/relationships/image" Target="../media/image5.jpeg"/><Relationship Id="rId15" Type="http://schemas.openxmlformats.org/officeDocument/2006/relationships/hyperlink" Target="http://images.google.co.uk/imgres?imgurl=http://upload.wikimedia.org/wikipedia/commons/thumb/d/d7/Dice-6a.svg/557px-Dice-6a.svg.png&amp;imgrefurl=http://commons.wikimedia.org/wiki/File:Dice-6a.svg&amp;usg=__UedgtApqJuGdDMZHmkeFdggYkmM=&amp;h=557&amp;w=557&amp;sz=30&amp;hl=en&amp;start=2&amp;tbnid=LsMhKPXLRX6-XM:&amp;tbnh=133&amp;tbnw=133&amp;prev=/images%3Fq%3Ddice%2B6%26gbv%3D2%26hl%3Den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.uk/imgres?imgurl=http://upload.wikimedia.org/wikipedia/commons/thumb/0/09/Dice-1.svg/557px-Dice-1.svg.png&amp;imgrefurl=http://commons.wikimedia.org/wiki/File:Dice-1.svg&amp;usg=__2Bygz51kjeuiQqAFBnTk1UJHmyk=&amp;h=557&amp;w=557&amp;sz=11&amp;hl=en&amp;start=7&amp;tbnid=rYX3qPdENwubYM:&amp;tbnh=133&amp;tbnw=133&amp;prev=/images%3Fq%3Ddice%2B1%26gbv%3D2%26hl%3Den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co.uk/imgres?imgurl=http://upload.wikimedia.org/wikipedia/commons/thumb/b/bc/Dice-2a.svg/557px-Dice-2a.svg.png&amp;imgrefurl=http://commons.wikimedia.org/wiki/File:Dice-2a.svg&amp;usg=__NKE4nE8Dg_GKiWkK_153KKqWUoc=&amp;h=557&amp;w=557&amp;sz=15&amp;hl=en&amp;start=1&amp;tbnid=NYlTVYKbG93-mM:&amp;tbnh=133&amp;tbnw=133&amp;prev=/images%3Fq%3Ddice%2B2%26gbv%3D2%26hl%3Den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.uk/imgres?imgurl=http://upload.wikimedia.org/wikipedia/commons/thumb/2/28/Dice-3a.svg/557px-Dice-3a.svg.png&amp;imgrefurl=http://commons.wikimedia.org/wiki/File:Dice-3a.svg&amp;usg=__cYMoXoEQq6HmdBNymZGorfzwZP0=&amp;h=557&amp;w=557&amp;sz=19&amp;hl=en&amp;start=2&amp;tbnid=4EDlNMFEdkGzcM:&amp;tbnh=133&amp;tbnw=133&amp;prev=/images%3Fq%3Ddice%2B3%26gbv%3D2%26hl%3Den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images.google.co.uk/imgres?imgurl=http://upload.wikimedia.org/wikipedia/commons/thumb/1/16/Dice-4.svg/557px-Dice-4.svg.png&amp;imgrefurl=http://commons.wikimedia.org/wiki/File:Dice-4.svg&amp;usg=__ht_hPy4X03Q4O0kITPgrqpmQkkw=&amp;h=557&amp;w=557&amp;sz=23&amp;hl=en&amp;start=6&amp;tbnid=nYizvlNsOzhHYM:&amp;tbnh=133&amp;tbnw=133&amp;prev=/images%3Fq%3Ddice%2B4%26gbv%3D2%26hl%3Den" TargetMode="External"/><Relationship Id="rId24" Type="http://schemas.openxmlformats.org/officeDocument/2006/relationships/image" Target="../media/image10.jpe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42920" y="476280"/>
            <a:ext cx="6769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Perfect T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Swim, not sink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4076640"/>
            <a:ext cx="8724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te down 5 things you c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member about the Perfect T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 French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 r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é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is morning he watched a fil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e matin il a regard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 un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esterday I listened to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Hier, j’ai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couté de la mus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ast summer I did the wash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L’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té dernier, j’ai fait de la vaiss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aturday she played football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Samedi, elle a jou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 au foot avec ses cop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e ate at six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66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On a mang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é à six he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362320" cy="1676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été dern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 m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st tense sentences have three parts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3300"/>
                </a:solidFill>
                <a:latin typeface="Calibri"/>
              </a:rPr>
              <a:t>J’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i</a:t>
            </a:r>
            <a:r>
              <a:rPr b="0" lang="en-GB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jou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imes we use “avoir” to make the sentence in the past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j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j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owever with some verbs we need to use “être” instead of “avoir” when we make sentences in the past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devo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know how to form the passé composé with ‘avoir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have learned all the irregular verbs e.g fair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fa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re will be a muliple choice test on Friday – so be read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 j’ai 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lévision regardé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u un coca j’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oué l’ordinateur j’ai 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élo fait du dimanche j’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s frites à la mangé cantine j’a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es magasins le week-end dernier fait j’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u cinéma film un j’ai regar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ison à la j’ai mang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assé semaines j’ai trois Espagne 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imé nourriture la j’ai beaucoup fr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-360" y="-243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copie les phrases dans le bon 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est – How much can you rememb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/She ha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 all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hey hav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/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s/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62160" y="6126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74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est -Irregular Past Parti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93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oi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prend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ître – (somebody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roir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r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Êtr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tt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uvoi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ndr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voi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i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uloi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79640" y="836280"/>
            <a:ext cx="403884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a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ran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derstoo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kne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elieve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ad to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i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ee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ne/mad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u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ul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o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ne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ante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74120" y="636120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920" y="-698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phrases - regu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ate (man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e finished (fin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 sold (vend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 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You all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ey sold (mascul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c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J’ai mang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62160" y="61977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3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phrases - irregul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did (fai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believed (croi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was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êt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he understood (comprend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hey drank (boi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J’ai f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86080" y="4735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9560" y="6410160"/>
            <a:ext cx="15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otal     /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0" y="93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alibri"/>
              </a:rPr>
              <a:t>J’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i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suis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alibri"/>
              </a:rPr>
              <a:t>Il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alibri"/>
              </a:rPr>
              <a:t>Elle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003300"/>
                </a:solidFill>
                <a:latin typeface="Calibri"/>
              </a:rPr>
              <a:t>On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en-GB" sz="4400" spc="-1" strike="noStrike">
                <a:solidFill>
                  <a:srgbClr val="ff3300"/>
                </a:solidFill>
                <a:latin typeface="Calibri"/>
              </a:rPr>
              <a:t>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066680" y="39625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5410080"/>
            <a:ext cx="175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s stay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1066680"/>
            <a:ext cx="1143000" cy="2590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809520" y="1219320"/>
            <a:ext cx="685800" cy="2361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4952880"/>
            <a:ext cx="1752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voir is replaced by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ê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419360" y="38862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048120"/>
            <a:ext cx="838080" cy="838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00800" y="1143000"/>
            <a:ext cx="838080" cy="27432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3962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52280"/>
            <a:ext cx="8763120" cy="632484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371600"/>
            <a:ext cx="1295280" cy="5273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E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1371600"/>
            <a:ext cx="1295640" cy="52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u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685800"/>
            <a:ext cx="12952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685800"/>
            <a:ext cx="129564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80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380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80880"/>
            <a:ext cx="3809880" cy="574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nter – to climb - mon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ster – to stay - res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rtir – to go out - so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nir – to come - v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ller – to go - all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ître – to be born - 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scendre – to go down - desce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ntrer – to go in - ent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mber – to fall - tomb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ntrer – to go back - rent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rriver – to arrive - arriv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urir – to die - m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rtir – to leave - p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3816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90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90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371600"/>
            <a:ext cx="1295280" cy="5273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E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1371600"/>
            <a:ext cx="1295640" cy="52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u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685800"/>
            <a:ext cx="12952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685800"/>
            <a:ext cx="129564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743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80880"/>
            <a:ext cx="3809880" cy="574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nter – to climb - mon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ester – to stay - rest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ortir – to go out - so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nir – to come - v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ller – to go - all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ître – to be born - 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scendre – to go down - desce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ntrer – to go in - entr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mber – to fall - tomb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entrer – to go back - rentr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rriver – to arrive - arriv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urir – to die - m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artir – to leave - p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23736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earn the verbs underl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716360" y="4419360"/>
            <a:ext cx="160560" cy="18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drumrol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620640"/>
            <a:ext cx="8686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EN TALKING ABOUT GIRLS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dd an “e” onto the final ver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e suis al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(only if girl describ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lle est allé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(always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 est allé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(use if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nly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talking about gir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Il est allé (does not 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EN TALKING ABOUT MORE THAN ONE PERSON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You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U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add an “s” onto the final ver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us sommes allé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f group is all male or a mixed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us sommes allée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if the group is all fem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ls sont allés (all male or mixed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lles sont allées (all fem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crivez les phrases en fran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çais et en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nglai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2578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e suis all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(e) au ciné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e suis arriv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(e) à l’heure.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ier, elle est rentr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e t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l est rest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 à la maiso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 est all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é(e) en Espag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e soir, elle est sortie avec 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e suis parti(e)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à huit heures samedi so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lle est allée en ville avec sa fami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1676520"/>
            <a:ext cx="1524240" cy="53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ard -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50920" y="333360"/>
          <a:ext cx="8713800" cy="6191280"/>
        </p:xfrm>
        <a:graphic>
          <a:graphicData uri="http://schemas.openxmlformats.org/drawingml/2006/table">
            <a:tbl>
              <a:tblPr/>
              <a:tblGrid>
                <a:gridCol w="1111320"/>
                <a:gridCol w="1122120"/>
                <a:gridCol w="792360"/>
                <a:gridCol w="1079280"/>
                <a:gridCol w="863640"/>
                <a:gridCol w="1584360"/>
                <a:gridCol w="1008000"/>
                <a:gridCol w="115272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r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end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iv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447920"/>
            <a:ext cx="8001000" cy="48607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4479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 week-end dernier,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(1. all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hez mon p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. Vendredi soir, 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2. all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u cinéma ensemble.  Samedi matin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3. sorti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vec des copains.  On    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4. bo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n coca et ensuite 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5. fa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u vélo.  C’était génial. 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6. rentr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vers six heures.  Samedi soir,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7. mang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u restaurant avec mon père.  C’ était un peu ennuyeux. Dimanche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8. rest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à la maison. 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9. regard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n bon film à la télévision. Après ça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10. fa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es devo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copie et compl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ète les phr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1447920"/>
            <a:ext cx="8001000" cy="48607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4479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 week-end dernier, je </a:t>
            </a:r>
            <a:r>
              <a:rPr b="0" lang="en-GB" sz="2800" spc="-1" strike="noStrike">
                <a:solidFill>
                  <a:srgbClr val="ff3300"/>
                </a:solidFill>
                <a:latin typeface="Calibri"/>
              </a:rPr>
              <a:t>suis all</a:t>
            </a:r>
            <a:r>
              <a:rPr b="0" lang="en-GB" sz="2800" spc="-1" strike="noStrike">
                <a:solidFill>
                  <a:srgbClr val="ff3300"/>
                </a:solidFill>
                <a:latin typeface="Calibri"/>
                <a:ea typeface="Times New Roman"/>
              </a:rPr>
              <a:t>é(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hez mon p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. Vendredi soir, 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2. all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u cinéma ensemble.  Samedi matin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3. sorti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vec des copains.  On    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4. bo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n coca et ensuite on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5. fa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u vélo.  C’était génial. 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6. rentr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vers six heures.  Samedi soir,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7. mang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u restaurant avec mon père.  C’ était un peu ennuyeux. Dimanche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8. rest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à la maison. 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9. regarder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n bon film à la télévision. Après ça j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10. fair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es devo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copie et compl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ète les phr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443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youtube.com/watch?v=n4UozxSeaX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Qe1HsTDVU2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www.youtube.com/watch?v=3LRnd-bVa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youtube.com/watch?v=iNWnr_zd4P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8136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566100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549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00000" y="1486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00000" y="2521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3529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221440" y="4626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221440" y="5705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221440" y="59364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221440" y="1530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21440" y="2565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3"/>
          <a:stretch/>
        </p:blipFill>
        <p:spPr>
          <a:xfrm>
            <a:off x="5221440" y="357336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88440" y="72072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e s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62080" y="158436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u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69360" y="266400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/Elle/On 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39760" y="36720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us so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27960" y="4680000"/>
            <a:ext cx="17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ê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5000" y="576108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s/Elles s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94120" y="765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8680" y="17002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53960" y="270828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62240" y="378936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o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79440" y="4869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r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50720" y="58053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t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-74520"/>
            <a:ext cx="9144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t’s get conjuga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70160" y="0"/>
            <a:ext cx="41734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eudi, le 17 ju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1052640"/>
            <a:ext cx="7488000" cy="3384360"/>
          </a:xfrm>
          <a:prstGeom prst="cloudCallout">
            <a:avLst>
              <a:gd name="adj1" fmla="val 41074"/>
              <a:gd name="adj2" fmla="val 58254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092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Je vais réviser le passé composé avec les verbes ‘avoir’ (Part 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1519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 past tense – used to talk about events that happened ‘once’ in the p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 walked into a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 ate pizza and drank co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 listened to music in my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 went into town with m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assé Compos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3130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hat are ‘avoir’ verb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920" y="1057320"/>
            <a:ext cx="765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’ verbs need to use ‘avoir’ to create the past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st French verbs take the verb ‘avoir’ when they ar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e past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 =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You use the present tense of ‘avoi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J’ai – I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u as – You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/Elle/On a – He/She/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s avons –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us avez -  You all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s/Elles ont – They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VOIR’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341964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J’ai – I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u as – You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/Elle a – He/She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s avons –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us avez – You all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s/Elles ont – They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0" y="62064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4320" y="4221000"/>
            <a:ext cx="371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dings – take the verb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knock off the ending er/ir/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r – é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jouer&gt;jo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r – i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inir&gt;f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 – u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vendre&gt;ve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0" y="41623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17800" y="692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838680"/>
            <a:ext cx="4787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6320" y="770040"/>
            <a:ext cx="1608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+2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’ai jo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’ai f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’ai ven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8136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566100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54936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00000" y="1486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00000" y="2521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35290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221440" y="4626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221440" y="5705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221440" y="59364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221440" y="1530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21440" y="2565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221440" y="357336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26880" y="69372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J’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3440" y="155736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u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3800" y="263700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l/Elle/On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26880" y="364500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Nous av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6160" y="4653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Vous a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6520" y="5734080"/>
            <a:ext cx="19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ls/Elles 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89440" y="77004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4880" y="170496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a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35600" y="2712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i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33440" y="37940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ou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61440" y="487368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en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41360" y="5810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tten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-74520"/>
            <a:ext cx="914400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jugation by chanc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5"/>
          <a:stretch/>
        </p:blipFill>
        <p:spPr>
          <a:xfrm>
            <a:off x="-54144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3860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rregular Past Parti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93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 -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oire – to d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prendre –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ître – to know (some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roire – to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voir –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re – to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Être –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re – to do/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ttre – to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uvoir – to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ndre – to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voir – to know (a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ir – to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uloir – to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7640" y="69192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u -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u - d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pris -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nu – k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u - bel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û – h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t -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été -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t – done/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s -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u -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is - t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 - k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u -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oulu - w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67640" y="393372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voi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7665120" y="5118120"/>
            <a:ext cx="14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u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/El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s av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ous av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s/Elles 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51640" y="3860640"/>
            <a:ext cx="0" cy="299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1640" y="386064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5257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 peu de r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é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is morning he watched a fil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Yesterday I listened to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ast summer I did the wash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aturday she played football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e ate at six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362320" cy="1676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été dern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 m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0:36:26Z</dcterms:created>
  <dc:creator>Lisa S</dc:creator>
  <dc:description/>
  <dc:language>en-US</dc:language>
  <cp:lastModifiedBy>Administrator</cp:lastModifiedBy>
  <dcterms:modified xsi:type="dcterms:W3CDTF">2010-06-17T01:26:41Z</dcterms:modified>
  <cp:revision>18</cp:revision>
  <dc:subject/>
  <dc:title>PowerPoint Presentation</dc:title>
</cp:coreProperties>
</file>